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13.jpeg" ContentType="image/jpeg"/>
  <Override PartName="/ppt/media/image8.jpeg" ContentType="image/jpeg"/>
  <Override PartName="/ppt/media/image26.jpeg" ContentType="image/jpeg"/>
  <Override PartName="/ppt/media/image5.jpeg" ContentType="image/jpeg"/>
  <Override PartName="/ppt/media/image4.wmf" ContentType="image/x-wmf"/>
  <Override PartName="/ppt/media/image1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.wmf" ContentType="image/x-wmf"/>
  <Override PartName="/ppt/media/image15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jpeg" ContentType="image/jpeg"/>
  <Override PartName="/ppt/media/image24.png" ContentType="image/png"/>
  <Override PartName="/ppt/media/image25.jpeg" ContentType="image/jpeg"/>
  <Override PartName="/ppt/media/image29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4987-8DBA-4EB8-8DF2-A8B3F9182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olipid bi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other molecules in membra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 skeleton, different functional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e of same elements as carbohydrates but very different structure/ proportions &amp; therefore very different biologic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 at structure… What makes them hydrophob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functional group = carboxy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FAT molecule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lling the water out to free up the 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happens when you add oil to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is there a lot of energy stored in fa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bonds of stored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why are we attracted to eating f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our ancestors on the Serengeti Plain &amp; during the Ice Age. Was eating fat an advant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plant lip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“natural” peanut but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unsaturated fa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il separat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ies want to make their product easier to u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p the oil from separat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 oil solid at room te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genate it = chemically alter to saturat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 nutr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A5B5-6CAE-4ACB-9428-0A6793DE7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154F-A82D-407B-BC3F-935AB3FE2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0175-D4E7-4126-93DF-0210FB8DE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96FE-6705-4D09-BEDE-CADC39469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2659-BCE5-4A6A-9A6D-3FA85B882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C62D-E870-41DA-8A77-E0E3A6C9B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264F-5E2E-4825-961D-53A7E6B14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3C10-EA96-42BB-8FC6-1C2BB435E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D403-DF28-4400-822C-63EE11959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8D03-E44B-493E-9FC6-50A4B778E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E281-B523-4F08-923A-2DD86AFFF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AB30-6241-4121-BB8A-ECBD9F166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26EC-6A08-4CEF-86AB-06D6D42CF474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: Fats &amp; Oil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87320" y="1371600"/>
            <a:ext cx="3175200" cy="2540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43400" y="1344600"/>
            <a:ext cx="4572000" cy="258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97840" y="4229280"/>
            <a:ext cx="1717560" cy="247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38080" y="4191120"/>
            <a:ext cx="2476800" cy="2278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657600" y="4267080"/>
            <a:ext cx="3048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vs. unsaturated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6492"/>
          <a:stretch/>
        </p:blipFill>
        <p:spPr>
          <a:xfrm>
            <a:off x="762120" y="1752480"/>
            <a:ext cx="8164440" cy="3178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75689" r="60301" b="6492"/>
          <a:stretch/>
        </p:blipFill>
        <p:spPr>
          <a:xfrm>
            <a:off x="797040" y="488160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0" t="75689" r="60301" b="6492"/>
          <a:stretch/>
        </p:blipFill>
        <p:spPr>
          <a:xfrm>
            <a:off x="797040" y="541512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rcRect l="0" t="75689" r="60301" b="6492"/>
          <a:stretch/>
        </p:blipFill>
        <p:spPr>
          <a:xfrm>
            <a:off x="797040" y="594360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rcRect l="61204" t="69198" r="0" b="6492"/>
          <a:stretch/>
        </p:blipFill>
        <p:spPr>
          <a:xfrm>
            <a:off x="5638680" y="4967280"/>
            <a:ext cx="3168720" cy="82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rcRect l="61204" t="69198" r="0" b="6492"/>
          <a:stretch/>
        </p:blipFill>
        <p:spPr>
          <a:xfrm>
            <a:off x="5975280" y="5867280"/>
            <a:ext cx="3168720" cy="824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01280" y="129492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aturated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9360" y="129492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unsaturated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2666880"/>
            <a:ext cx="3595680" cy="3595680"/>
            <a:chOff x="914400" y="2666880"/>
            <a:chExt cx="3595680" cy="3595680"/>
          </a:xfrm>
        </p:grpSpPr>
        <p:sp>
          <p:nvSpPr>
            <p:cNvPr id="169" name=""/>
            <p:cNvSpPr/>
            <p:nvPr/>
          </p:nvSpPr>
          <p:spPr>
            <a:xfrm>
              <a:off x="914400" y="2666880"/>
              <a:ext cx="3595680" cy="3595680"/>
            </a:xfrm>
            <a:prstGeom prst="ellipse">
              <a:avLst/>
            </a:prstGeom>
            <a:noFill/>
            <a:ln w="3049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96960" y="3008160"/>
              <a:ext cx="2139480" cy="2927160"/>
            </a:xfrm>
            <a:prstGeom prst="line">
              <a:avLst/>
            </a:prstGeom>
            <a:ln w="3049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007960" y="3015720"/>
            <a:ext cx="407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0" spc="-1" strike="noStrike">
                <a:solidFill>
                  <a:srgbClr val="006c01"/>
                </a:solidFill>
                <a:latin typeface="Wingdings"/>
                <a:ea typeface="Wingdings"/>
              </a:rPr>
              <a:t></a:t>
            </a:r>
            <a:endParaRPr b="0" lang="en-US" sz="37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32404" b="8571"/>
          <a:stretch/>
        </p:blipFill>
        <p:spPr>
          <a:xfrm>
            <a:off x="4091040" y="2660760"/>
            <a:ext cx="4849920" cy="4132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3152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lycerol + 2 fatty acids +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negatively charge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1105920" y="3591000"/>
            <a:ext cx="2469960" cy="2077920"/>
          </a:xfrm>
          <a:prstGeom prst="wedgeEllipseCallout">
            <a:avLst>
              <a:gd name="adj1" fmla="val 42990"/>
              <a:gd name="adj2" fmla="val 508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t’s just like 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enguin…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 head at one e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&amp; a tai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t the other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0" r="32674" b="11856"/>
          <a:stretch/>
        </p:blipFill>
        <p:spPr>
          <a:xfrm>
            <a:off x="4572000" y="3052800"/>
            <a:ext cx="4522680" cy="3728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639612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or hydrophilic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atty acid tails =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phob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=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hydrophilic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ea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ual “personality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39720" y="5261040"/>
            <a:ext cx="3127680" cy="124164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with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is complex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y import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 flipH="1">
            <a:off x="221760" y="55706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>
            <a:off x="536400" y="3886200"/>
            <a:ext cx="2286000" cy="1239840"/>
          </a:xfrm>
          <a:prstGeom prst="wedgeEllipseCallout">
            <a:avLst>
              <a:gd name="adj1" fmla="val 16180"/>
              <a:gd name="adj2" fmla="val 104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It likes wate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&amp; also pushes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it away</a:t>
            </a:r>
            <a:r>
              <a:rPr b="1" i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in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ilic heads attracted to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tails “hide” from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self-assemble into “bubbles”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bble = “micelle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n also form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ilay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rly evolutionary stage of cell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27489" t="0" r="0" b="52806"/>
          <a:stretch/>
        </p:blipFill>
        <p:spPr>
          <a:xfrm>
            <a:off x="228600" y="4343400"/>
            <a:ext cx="4267080" cy="2446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29604" t="57006" r="0" b="8678"/>
          <a:stretch/>
        </p:blipFill>
        <p:spPr>
          <a:xfrm>
            <a:off x="4971960" y="5043600"/>
            <a:ext cx="3924360" cy="1633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154480" y="4477320"/>
            <a:ext cx="3419640" cy="459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ilay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is this importan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create a barrier in wa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fine outside vs. insid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35040" y="3327480"/>
            <a:ext cx="2903400" cy="24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873600" y="2889360"/>
            <a:ext cx="5105160" cy="38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42302" t="0" r="32674" b="11856"/>
          <a:stretch/>
        </p:blipFill>
        <p:spPr>
          <a:xfrm>
            <a:off x="254160" y="3029040"/>
            <a:ext cx="1158840" cy="2570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rcRect l="0" t="0" r="0" b="17560"/>
          <a:stretch/>
        </p:blipFill>
        <p:spPr>
          <a:xfrm>
            <a:off x="4343400" y="3192480"/>
            <a:ext cx="4699080" cy="36655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&amp; c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69199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of cell membran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ouble layer =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ilay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philic heads on outsid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in contact with aqueous solution outside of cell and inside of cel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phobic tails on insid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rm cor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rms barrier between cell &amp;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ternal environm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>
            <a:off x="1657440" y="4857840"/>
            <a:ext cx="2286000" cy="1239840"/>
          </a:xfrm>
          <a:prstGeom prst="wedgeEllipseCallout">
            <a:avLst>
              <a:gd name="adj1" fmla="val 65208"/>
              <a:gd name="adj2" fmla="val 24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ell th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bout soa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ero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: cholesterol, sex hormo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 fused C ring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steroids created by attach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functional group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ring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3200400" y="4038480"/>
            <a:ext cx="5753160" cy="2605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897280" y="4266360"/>
            <a:ext cx="167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holestero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ell component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imal 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ecursor of all other 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cluding vertebrate sex hormo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igh levels in blood may contribute to cardiovascular dise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228600" y="4703760"/>
            <a:ext cx="4419720" cy="2001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971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27040" y="2043000"/>
            <a:ext cx="5738760" cy="430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13400" y="3089160"/>
            <a:ext cx="2616480" cy="13780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elps keep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ell membranes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fluid &amp; flexibl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6960" y="1384200"/>
            <a:ext cx="8008920" cy="506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0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omponent of cell membran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holesterol </a:t>
            </a:r>
            <a:r>
              <a:rPr b="1" lang="en-US" sz="36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Sex Hormon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36760" y="1785960"/>
            <a:ext cx="5830920" cy="4995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52280" y="1898640"/>
            <a:ext cx="3048120" cy="2254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666" t="0" r="9438" b="0"/>
          <a:stretch/>
        </p:blipFill>
        <p:spPr>
          <a:xfrm>
            <a:off x="0" y="4575240"/>
            <a:ext cx="3200400" cy="1974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10720" y="1230120"/>
            <a:ext cx="815364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What a big difference a few atoms can make!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1683" r="52024" b="48674"/>
          <a:stretch/>
        </p:blipFill>
        <p:spPr>
          <a:xfrm>
            <a:off x="5407200" y="447840"/>
            <a:ext cx="3511440" cy="19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22200"/>
            <a:ext cx="1792440" cy="2654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438280" y="4290840"/>
            <a:ext cx="3962520" cy="24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24760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84600" y="3427920"/>
            <a:ext cx="326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nergy storage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Let’s build some </a:t>
            </a:r>
            <a:endParaRPr b="1" lang="en-US" sz="3800" spc="-1" strike="noStrike">
              <a:solidFill>
                <a:srgbClr val="0f116a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!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0022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6880" y="138384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pids are composed of C, H, 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long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ydrocarbon chain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verse grou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ospho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no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form polym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big molecul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made of smaller subun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 continuing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7200" r="0" b="0"/>
          <a:stretch/>
        </p:blipFill>
        <p:spPr>
          <a:xfrm>
            <a:off x="6999120" y="378000"/>
            <a:ext cx="2028960" cy="2690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4" name="" descr=""/>
          <p:cNvPicPr/>
          <p:nvPr/>
        </p:nvPicPr>
        <p:blipFill>
          <a:blip r:embed="rId2"/>
          <a:srcRect l="0" t="47402" r="9442" b="9600"/>
          <a:stretch/>
        </p:blipFill>
        <p:spPr>
          <a:xfrm>
            <a:off x="5113440" y="2911320"/>
            <a:ext cx="3951360" cy="210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5" name=""/>
          <p:cNvSpPr/>
          <p:nvPr/>
        </p:nvSpPr>
        <p:spPr>
          <a:xfrm>
            <a:off x="6342120" y="2432880"/>
            <a:ext cx="64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at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 subunit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ycerol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3C alcohol)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ty ac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65883"/>
          <a:stretch/>
        </p:blipFill>
        <p:spPr>
          <a:xfrm>
            <a:off x="1600200" y="3429000"/>
            <a:ext cx="6477120" cy="2482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12400" y="5866200"/>
            <a:ext cx="3414600" cy="459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438280"/>
            <a:ext cx="77724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atty acid = </a:t>
            </a:r>
            <a:br>
              <a:rPr sz="2400"/>
            </a:b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long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C “tail” with COOH group at “head”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20800" y="3343320"/>
            <a:ext cx="2165400" cy="1650960"/>
            <a:chOff x="1720800" y="3343320"/>
            <a:chExt cx="2165400" cy="1650960"/>
          </a:xfrm>
        </p:grpSpPr>
        <p:sp>
          <p:nvSpPr>
            <p:cNvPr id="122" name=""/>
            <p:cNvSpPr/>
            <p:nvPr/>
          </p:nvSpPr>
          <p:spPr>
            <a:xfrm>
              <a:off x="1720800" y="3343320"/>
              <a:ext cx="2165400" cy="165096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8760" y="4293360"/>
              <a:ext cx="139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ilding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iacylglycer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fatty acids linked to glycer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ster linkag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= between OH &amp; COOH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0718" r="8536" b="3420"/>
          <a:stretch/>
        </p:blipFill>
        <p:spPr>
          <a:xfrm>
            <a:off x="1981080" y="2874960"/>
            <a:ext cx="5581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47402" r="9442" b="9600"/>
          <a:stretch/>
        </p:blipFill>
        <p:spPr>
          <a:xfrm>
            <a:off x="2189160" y="3524400"/>
            <a:ext cx="5608800" cy="299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2"/>
          <a:srcRect l="0" t="0" r="0" b="66003"/>
          <a:stretch/>
        </p:blipFill>
        <p:spPr>
          <a:xfrm>
            <a:off x="2209680" y="1193760"/>
            <a:ext cx="5405400" cy="2063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ehydration 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06800" y="3289320"/>
            <a:ext cx="1861920" cy="1419120"/>
            <a:chOff x="2206800" y="3289320"/>
            <a:chExt cx="1861920" cy="1419120"/>
          </a:xfrm>
        </p:grpSpPr>
        <p:sp>
          <p:nvSpPr>
            <p:cNvPr id="131" name=""/>
            <p:cNvSpPr/>
            <p:nvPr/>
          </p:nvSpPr>
          <p:spPr>
            <a:xfrm>
              <a:off x="2206800" y="328932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7960" y="410256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251320" y="2633760"/>
            <a:ext cx="516240" cy="819000"/>
          </a:xfrm>
          <a:prstGeom prst="downArrow">
            <a:avLst>
              <a:gd name="adj1" fmla="val 50000"/>
              <a:gd name="adj2" fmla="val 3966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06800" y="4335480"/>
            <a:ext cx="1861920" cy="1419120"/>
            <a:chOff x="2206800" y="4335480"/>
            <a:chExt cx="1861920" cy="1419120"/>
          </a:xfrm>
        </p:grpSpPr>
        <p:sp>
          <p:nvSpPr>
            <p:cNvPr id="135" name=""/>
            <p:cNvSpPr/>
            <p:nvPr/>
          </p:nvSpPr>
          <p:spPr>
            <a:xfrm>
              <a:off x="2206800" y="433548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7960" y="514872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06800" y="5438880"/>
            <a:ext cx="1861920" cy="1419120"/>
            <a:chOff x="2206800" y="5438880"/>
            <a:chExt cx="1861920" cy="1419120"/>
          </a:xfrm>
        </p:grpSpPr>
        <p:sp>
          <p:nvSpPr>
            <p:cNvPr id="138" name=""/>
            <p:cNvSpPr/>
            <p:nvPr/>
          </p:nvSpPr>
          <p:spPr>
            <a:xfrm>
              <a:off x="2206800" y="543888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87960" y="625212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700440" y="2718360"/>
            <a:ext cx="3419640" cy="4597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s store energ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ng HC cha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ar or non-polar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philic or hydrophobic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storag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very ric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x carbohydrat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ushion orga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sulates bod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nk whale blubbe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08160" y="1814400"/>
            <a:ext cx="1922760" cy="735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84480" y="2247840"/>
            <a:ext cx="259092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352" t="46803" r="9442" b="9002"/>
          <a:stretch/>
        </p:blipFill>
        <p:spPr>
          <a:xfrm>
            <a:off x="4694400" y="3191040"/>
            <a:ext cx="4270320" cy="237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864560" y="3985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264280" y="500040"/>
            <a:ext cx="2411280" cy="1239840"/>
          </a:xfrm>
          <a:prstGeom prst="wedgeEllipseCallout">
            <a:avLst>
              <a:gd name="adj1" fmla="val 71726"/>
              <a:gd name="adj2" fmla="val -27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Why do humans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like fatty foods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816520" y="4807080"/>
            <a:ext cx="2843280" cy="1893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C bonded to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C=C double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ong, straight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st animal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lid at room temp.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tributes to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diovascular diseas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(atherosclerosis)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plaque deposi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683" r="52024" b="4872"/>
          <a:stretch/>
        </p:blipFill>
        <p:spPr>
          <a:xfrm>
            <a:off x="5502240" y="3038400"/>
            <a:ext cx="3513240" cy="3668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2" name="" descr=""/>
          <p:cNvPicPr/>
          <p:nvPr/>
        </p:nvPicPr>
        <p:blipFill>
          <a:blip r:embed="rId2"/>
          <a:srcRect l="23628" t="60008" r="27001" b="7504"/>
          <a:stretch/>
        </p:blipFill>
        <p:spPr>
          <a:xfrm>
            <a:off x="5370480" y="635040"/>
            <a:ext cx="37735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53555" t="2520" r="3600" b="5039"/>
          <a:stretch/>
        </p:blipFill>
        <p:spPr>
          <a:xfrm>
            <a:off x="5681520" y="2820960"/>
            <a:ext cx="3343320" cy="3867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3120" y="1371600"/>
            <a:ext cx="7947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=C double bonds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fatty aci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lant &amp; fish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egetable oi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iquid at room tempera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kinks made by double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onded C prevent th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lecules from packing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ightly toge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31501" t="51000" r="27001" b="3000"/>
          <a:stretch/>
        </p:blipFill>
        <p:spPr>
          <a:xfrm>
            <a:off x="5719680" y="355680"/>
            <a:ext cx="2908440" cy="241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flipH="1">
            <a:off x="221760" y="556560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2154240" y="5479920"/>
            <a:ext cx="2548080" cy="1239840"/>
          </a:xfrm>
          <a:prstGeom prst="wedgeEllipseCallout">
            <a:avLst>
              <a:gd name="adj1" fmla="val 88254"/>
              <a:gd name="adj2" fmla="val -146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mono-unsaturated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poly-unsaturated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berly Area School District</cp:lastModifiedBy>
  <cp:lastPrinted>2007-11-13T04:33:52Z</cp:lastPrinted>
  <dcterms:modified xsi:type="dcterms:W3CDTF">2008-09-10T17:09:55Z</dcterms:modified>
  <cp:revision>41</cp:revision>
  <dc:subject/>
  <dc:title>PowerPoint Presentation</dc:title>
</cp:coreProperties>
</file>